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B4D-DA73-4C2D-B1EB-44AE070B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4AF8-A22B-4902-88EE-F7E6E7B1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80B-BAFE-46AC-A5DC-2622F759F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4C5-E140-4B9F-B4DB-553A20DE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92F-D539-47EA-8266-DE62FC00A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33D-FBA3-42F5-B92D-172CA80C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D37-844F-4349-AA22-58BCCBAF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1FD-F1EB-447A-B077-C9D5A4C2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0A6-D9D8-4F32-A728-354E5BEC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2181-F955-4D7E-8150-000F8B0CC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72E-06BD-4F34-A896-27EDECF8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B38A-B428-4C1F-B750-0759D0C96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0BD-1330-48EA-93F5-A9C440048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5EEA-316A-44ED-8D9F-89E63EA8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BAD-8EEC-4617-9D4B-610D0E27F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A049-6E24-40DF-AF60-F0974394A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BD1-9178-47AA-8B0A-C53F8562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034-ACA0-4709-BCEC-EC87A55B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79E2-45AA-42C4-A1DF-6FD9F4DF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ОВИ ПРОТИВ ВИРУСА И ГЉИ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МФОТЕРИЦИН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роциклични лактон (полиен), С12 и в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филни и хидрофобни део, не ресорбује 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родна супстанца, коју синтетише актиномице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es nodo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за ергостерол - иреверзибилно оштећењ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 антимикробни спектар (први изб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терални облик са липозомима – направљен да би се смањила токсичност (молекули амфотерицина су затворени у сићушним лоптицама од фосфолипида - липозом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сока 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ицијална фебрилн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фротоксичност, мијело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флуорираних пипем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етаб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ађује се у ДНК и инхибира тимидилат-синтет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 избора за хромобластоми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талих гљивица у комбинацији (амфотери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патотоксичан и мијелотоксичан (</a:t>
            </a: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посебно код болесника са АИДС-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Доза 150-200 мг/кг дневно, подељено у 4 орал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, микафунгин и анидулафунги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хибирају синтезу глуканске компоненте ћелијског зида гљив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 се примењује интравенски за лечење резистентних форми системских кандидијаза и  аспергил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жељена дејства каспофунгина су: мучнина, повраћање, повишена температура, црвенило лица, анемија и оштећење јет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и микафунгин имају мање нежељених дејстава од каспофунгина, и ређе ступају у интеракције са другим леко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се дуже задржава у организму од остала два ехинокандина, и једини се разграђује спонтаном хидролизом у жучним путе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ише се у кератиноцит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ује микротубуле 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екад тешка нежељена деј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тра, ЦНС, костна ср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ензитиван, тератоген (6 месеци), тригоник (алкохол), индуктор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ално: опсежне микозе косе и ноктију, коже (1-15 месе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алил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: Инхибира сквален-епоксид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сквалена (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: Дермато- и онихомикозе (12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орално или 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: Добро се подноси, нема интеракције C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ске реакције, централни ефекти, крвне дискр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ЛОКАЛНИ 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золи (већина сувише токсична систе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лотримазол, еконазол, кетоконаз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руги (сличне ефикас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лнафтат, нафтифин, циклопироксоламин, ундециленска кисел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генцијана, селен-сулфид, јодиди, акри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мбиновани препа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тфилдова маст (кератолитик, антимикоти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761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ензоева и салицилн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 из стрептомицета, поли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 као амфотерицин Б, не ресорбује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отреба: површинска канди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 дејство: локални препарати и таб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ктично без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матофите (Trychophyton, Microsporum, Epidermophy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nea corporis, cruris, ped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um, ungu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тиријазис (tinea) верзикол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irosporium orbicul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итразма (Nocardia s. Actinomyces minut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утана кандидијаз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Candida sp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локал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ширеност инфекције (милтипли локу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ихоми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 поглавин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ea cap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лни азоли: итраконазол, флу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ЛОКАЛНИХ МИ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 антимикотик, 1-2 пута дне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онихија и интертриго, 3-4 пута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а лечења 2-3 или 4-6 нед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а и подлога: крем и лоси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Гљивице и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робиоло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уђи: трихофитон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васнице: криптококус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морфне: кандид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линичка слика (микоз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окалне (кожа и слузниц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ерматофитије (тинеа), онихомик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ске/инвазивне (крв и унутрашњи органи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спергилоза, хистоплазмоза, кандидемија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озе поткожног тки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ицетоми (Мадура стопало), зигомикозе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ЕБРИЛНА НЕУТРОПЕН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ће последица имуносупресив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ебрил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8º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неутропенија &lt; 2.0x10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5-дневне терапије антибиотицима широког спек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а примена антимик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фотерицин, Каспофунгин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ре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менингитиса и Ласа грозниц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цивиру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Ц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рто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ип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ра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але богињ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икор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респираторне инфекције, менингитис, полиомијелитис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абд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беснило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вирус рубе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етр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 СИДА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ден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упале вежњаче и респираторних инфекција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д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Б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рпе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рпес усана и гениталних органа, херп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стер, овч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цитомегаловиру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пилом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ондиломи)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ок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75e47"/>
                </a:solidFill>
                <a:latin typeface="Arial"/>
              </a:rPr>
              <a:t>ЛЕКОВИ ЗА ИНФЕКЦИЈЕ ХЕРПЕС ВИРУСИМА</a:t>
            </a:r>
            <a:br>
              <a:rPr sz="3200"/>
            </a:b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Ациклов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уринских нуклеозида гуанозина, који се у ћелији домаћина фосфорилиш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о трифосфата, а затим инхибирају вирусну ДНК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име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икације: генерализоване инфекције херпес вирусом, рецидивантне инфекције гениталним херпесом, инфекције вирусом херпес зостер (само код тешких случајева овчијих богиња или херпес зост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мплетно се ресорбује у ГИТ-у, добро продире у сва ткива и телесне течности, плаценту и мл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учује се преко бубрега (гломеруларном филтрацијом и тубуларном секрецијом), већим делом неизмењ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жељена дејства: главобоља, мучнина и пролив, ређе осећај умора, пораст температуре, депресију, конфузију, конвулзије и алопецију; нефротоксичан код и.в.при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а је 200-800мг/5 часова орално, или 15 мг/кг/ дан и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Вала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-лек, одлично се апсорбује, а затим у јетри и цревном зиду претвара у ацикловир и тако постиже серумске концентрације ацикловира 3 до 5 пута више од оних након примене самог ациклов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ује се 500 мг на 12 часова, орал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ције: рецидивантни генитални херпес и умерено тешки облик херпес зосте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Arial"/>
              </a:rPr>
              <a:t>Идоксиуридин и трифлурид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Идоксиурид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ибира ДНК полимер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ењује се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локално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 терапији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фекција ока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зазваних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ерпес симплексом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(токсичан при системској примен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Трифлурид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луорирани пиримидински нуклеозид, који после фосфорилације инхибира претварање деокси-уридин монофосфата у деокситимидин монофосфат, а затим конкурише са деокситимидин трифосфатом за уградњу у ДНК вируса и ћелије домаћ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с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окално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а лечењ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ератокоњунктивитис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ваног херпес вирусима тип 1 и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 лека после дуже употребе могу изазвати замућење рожњ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Пенцикловир и фам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ен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гуанозина, који делује истим механизмом као ацикловир на синтезу ДНК херпес виру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 се само локално за лечење херпеса на 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Фам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про лек (диацетил естар пенцикловира), који се после апсорпције претвара у јетри у пенциклов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7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за протеине плазме (20%) и добро продире у сва ткива. Елиминише се преко бубрега, као неизмењен лек, гломеруларном филтрацијом и тубуларном секрециј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мцикловир доводи до бржег престанка бола код херпес зостера него ацикловир (доза фамцикловира: 500мг / 8 часова, орал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 конфузију, халуцинације, а ретко супресију костне срж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рштена резистен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важи за ацикловир, валацикловир и фамцикловир (нема је нема са фоскарнетом и цидофови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Цидофов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Цид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цитозина, инхибира активност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 се апсорбује, примењује се интравен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учује се неизмењен у урину (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.5 сата), али се знатно дуже задржава унутар ћелија, везан за фосфох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херпес симплекс инфекција које су резистентне на ацикловир, за превенцију и лечење цитомегаловирусног рети-нитиса код особа са СИДА-ом (5мг/кг интравенски, једном не-дељно), за лечење кондилома (Condylomata accumina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дофовир је нефротоксичан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ативно често изазива предњи увеитис и неутропен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нконије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Фоскарн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рганско једињење, аналог пирофосфата, који некомпетитивно инхибира вирусну ДНК полиме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само интравенски; у малом проценту се везује за протеине плазме, и одлично продире у многа ткива и телесне течности (нпр. у стакласто тело ока). Накупља у костима, услед чега се из организма споро елимини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цитомегаловирусног ретинитиса код пацијената са СИДА-ом, и за лечење инфекција херпес вирусом или варичела-зостер вирусом резистентним на ацикло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Д: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фротоксич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ст (превенција је добра хидрираност болеаника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калц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кал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магнезиј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хипофосфат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400" spc="-1" strike="noStrike">
                <a:solidFill>
                  <a:srgbClr val="000000"/>
                </a:solidFill>
                <a:latin typeface="Arial"/>
              </a:rPr>
              <a:t>Докосан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голанчани, засићени алкохол, који спречава улазак вируса у ћелије тако што инхибира фузију омотача вируса са мембраном ћелије домаћ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 локално у третману инфекције херпес симплекс вирусом (за херпес уса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и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парата за локалну примену еф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ан је ако се примени у продромалној фази- унутар 12 сати од првих симптома и наредних 5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ређењу са плацебом време зацељивања лезија рекурентног лабијалног херпеса се скраћује за 18 с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ежељених дејстава, па се издаје без рецеп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 инфлуенце типа  А и Б изазивају значајно обољење код љ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мантад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интетски трициклични амин, 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иманта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његов алфа-метил дери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рају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онски канал у мембрани вируса инфлуенце тип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к на тип Б слабо дел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е ови лекови примене у року од 48 часова од почетка симптома, трајање повишене температуре и тегоба се скраћује за 1-2 дана, али нема доказа да ови лекови спречавају настанак компл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и римантадин могу и да спрече настанак инфекције инфлуенцом А код 70 – 90% пациј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је токсичнији лек од римантадина - изазива депресију, конфузију, анксиозност и психомоторну инкоординацију, кардиоваскуларну токсичност и антимускаринска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ородна фармаколош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увођења у клиничку пр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гљивични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примене (фармацеутски об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 и оселтамивир - 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инхибитори вирусне неураминида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примењује се путем инхалације и око 15% се апсорбује у крв и излучује неизмењено преко бубре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Занамивир се користи за лечење (скраћује трајање болести за 1 дан) и профилаксу инфекције инфлуенцом А и Б, али само код пацијената старијих од 7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2f2b20"/>
                </a:solidFill>
                <a:latin typeface="Arial"/>
              </a:rPr>
              <a:t>Оселт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- Примењује се орално, добро се апсорбује, па се по-том у јетри претвара у активан облик оселтамивир карбоксил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Делује добро на инфлуенцу А и Б; у лечењу се користи код деце старије од годину дана и одраслих, а у превенцији се користи само код особа старијих од 13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Смањује трајање симптома за пола дана и смањује учесталост компликациј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Може да спречи настанак инфекције вирусом инфлуенце код 90% изложених особ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 терапије је смањење броја вируса у организму пре него што настане неповратно оштећење имунолошког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на лекова се започиње када је број ЦД4 лимфоцита мањи од 350/</a:t>
            </a:r>
            <a:r>
              <a:rPr b="0" lang="sr-C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, а број вирусних честица већи од 50.000/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ек се примењује комбинација лекова који делују на различите начине на ХИВ вир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сада постоји 6 група анти-ХИВ леко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675e47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т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проте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вирусне интег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користи комбинација 2 нуклеозидна инхи-битора са једним не-нуклеозидним инхибитором или једним инхибитором протеазе - таква комбинација се назив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исоко-активна антиретровирусна терапиј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807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илишу до трифосфатне форме, а онд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јством реверзне транскриптазе уграђ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 ДНК виру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;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е до прекида раста ланца вирусне ДНК, спречавајући даље размножавање в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довудин, ставудин, диданозин (у профилакси), ламивудин,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трицитаб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луоро дериват ламивуд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абакавир,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лцитаб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што инхибирају и ДНК полимеразу у митохондријама, могу изазвати лактат ацидозу, стеатозу јетре и њен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иферна неуропатија, панкреатитис, мијелотоксичност, хиперпигментација дланова и т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от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к, који се у организму претвара у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уклеозидни аналог адено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фикасан у терапији СИДА-е и када се развије резистенција на нуклеозидне инхибиторе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а малу биоискористљивост после оралне примене (25%), не метаболише се, и неизмењен се излучује преко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лично се подноси, не делује токсично на митохондрије као нуклеозидни инхиби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 инхибирају активност вирусне реверзне транскриптазе, делујући адитивно са нуклеозидним инхибито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када се не користе сами (због брзог развоја резистенције) већ само заједно са нуклеозидним инхибитори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фавиренц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за терапију СИДА-е и за профилаксу инфе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 оспу и пораст ензима јетре и холестерола у серуму. Централни ефекти: несаница, еуфорија, агитација, поремећај мишљења, ноћне море и халуцин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укује ЦИП3А4, а инхибира ЦИП2Ц9 и ЦИП2Ц19 -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ирап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лечење СИДА-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жак хепатитис и/или Стивен-Џонсонов синдро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вир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терапију СИДА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равирин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и Рилпивирин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-нуклеозидне инхибит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верзне транскрипт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вирусне проте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терапији СИДА-е, увек у комбинацији са осталим лек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ју ГИТ тегобе и парестезије, доводе до хипергликемије и инсулинске резистенције, и изазивају хиперлипидем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ам у јетри под дејством ЦИП3А4 –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Рито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токсичнији, и има највише интеракција (инхибира ЦИП3А4 и ЦИП2Д6 и индукује ЦИП1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Инд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изазива нефролитијазу, посебно код де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Нелф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мање токсичан од свих инхибитора протеазе, али може изазвати дијаре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у виду раствора за оралну примену, који садржи много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пропилен глико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 не сме давати деци млађој од 4 год.) 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Фос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про-лек, који се претвара у ампренав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Саквинавир, лопинавир, дарунавир и атаз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Типр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овији инхибитор протеазе који се даје код резистенције на друге лекове из ов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Енфувирти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 улазак ХИВ вируса у лимфоците блокадом вирусног трансмембранског протеи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п4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омогућава фузију мембране вируса са мембраном лимф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парене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Маравиро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локира хемокинск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ЦР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рецептора на лимфоцитима за глико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о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Оба лека примењују се само као додатна терапија уз инхибиторе реверзне транскриптазе, код пацијената који нису добро реаговали на примарн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хибитори вирусне интегр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Рал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елвитегравир и долу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у инхибитори вирусне интегразе, ензима који уграђује вирусну ДНК у хромозоме домаћина, и тиме омогућава репликацију виру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ују се орално,  у комбинацији са другим антиретровирусним лековима, за лечење болесника у свим стадијумима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што се метаболишу на цитохромима, елвитегравир и долутегравир ступају и интеракције са другим лековима, док то није случај са ралтегравиром, који се у јетри само коњуг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лтегравир може изазвати миопатију и рабдомиоли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лутегравир делује на неке сојеве вируса који су резистентни на ралтегравир и елвитеграви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ерапија Хепатитиса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ис Б  - ДНК вирус који се размножава у хепатоцит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а терапијска линија - пегиловани интерферон алфа, ентекавир и 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"пегилирани" интерферон </a:t>
            </a:r>
            <a:r>
              <a:rPr b="1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оњугат интерферона 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онометокси полиетилен гликола је депо-препарат, који се може примењивати једном недељно, потк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нтека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гуанозина који омета функционисање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нофовир дизопроксил фумар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уклеотидни аналог аденозин монофосфата који инхибира реверзну транскриптазу и ДНК полимеразу вируса хепатитиса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Телбиву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тимидина, који се после фосфорилације уграђује у ДНК вируса хепатитиса 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амивудин и адефовир</a:t>
            </a:r>
            <a:r>
              <a:rPr b="1" i="1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– у другој терапијској лин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хроничне форме хепатитиса Б траје најмање годину 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 ЗА СИСТЕМСКУ ПРИМЕ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золи: имидазоли и триазоли (кетоконазол, итраконазол, флуконазол, миконазол, вориконазол, поси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ени: амфотериц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каспофунгин, микафунг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ид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етоконазол, миконазол, клотрим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раконазол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ији, слабија резист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 фармакокинетика и поднош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цитохром Р450 (деметилаза) и синтезу ерго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ују мембрану гљи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ција АТР-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ок спектар антигљивичног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фикасни у локалној и системској пр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-фармако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ожена фармакокинетика, специфична з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ост, храна и лекови утичу на асп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ока дистрибуција, ограничен продор у ЦНС (флу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иминација преко јетре или бубре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и и/или системск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–нежељена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ро се подносе, релативно безбе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патотоксичност (ретко али опас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ција синтезе андрогена и кортизола (више до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ритмиј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c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срчана инсуфицијенција (итраконаз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е локалне поднош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уга дејства (специфично за л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ПРЕЗ КОД А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јетрeних ензима (АЛТ, 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 почетка, после 14 дана а потом месе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не вредности изнад 3 пута од горњег лимита реф.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терапије азолима објаснити пацијенту да се хитно јави лекару на поја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ке, гађења, повраћања, малаксалости, бола у трбуху, тамног у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09T19:42:58Z</dcterms:modified>
  <cp:revision>20</cp:revision>
  <dc:subject/>
  <dc:title>Slide 1</dc:title>
</cp:coreProperties>
</file>